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68A2-549D-4CBF-8763-6D2ECF8E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07800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8D83-0CCF-4921-BD45-7A27A66D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2B1FD-F564-4E40-A704-3028EB14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A1864-C1D8-4355-8218-B422C4B0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1763640" y="195120"/>
            <a:ext cx="5975280" cy="41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8E93F-867E-42B3-9465-B70498B0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091043-FA56-4738-BF9E-C4E31FBC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7E09B-03D4-473D-8C7F-B870EBC8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8CDFE-C659-4658-A42F-F1EBB495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07800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D1F93-118D-4BD9-B304-2726E1A6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17154-8CCA-4A94-8588-4BF890FB1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07800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07800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07800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44C03-495C-40BE-997A-F5DC95510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7DEA4-9A2A-4800-93C7-A3066679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E8CB-E6A6-4998-9991-D625617C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31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B5AE0-9A50-4A92-82B0-DBDCBF61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26CCE-8814-424B-9331-D4C9582B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BEA1E5-5B30-4810-BF97-2FFA89BE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2DEF1-3AB5-47AB-8473-D85B5478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763640" y="195120"/>
            <a:ext cx="5975280" cy="41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F83668-74E2-4313-85D9-2662C467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0EEC8-031E-447A-9F7C-FB610170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4A5FA2-0483-4E1E-9B8C-BD148BF6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1C4CF-023E-40B2-818F-5573C147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07800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6CC237-9C7C-48E2-B5C7-837A3585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26D36-5017-4291-9AA9-24F53E938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07800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07800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07800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3B98-C9D7-4FD8-9A3E-7A3826F43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07800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07800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07800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924F8-C2E6-4788-93DA-C53082163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6D061-6532-4276-A88C-64C99DDF5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31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79AEB-458D-4968-8998-86F266E8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9FDA0-141F-4EBC-87D3-6DA6AA59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C79A8-F766-43D0-8175-8291C363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FC91C-CC74-4D19-A2B4-6B74D1CD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1763640" y="195120"/>
            <a:ext cx="5975280" cy="41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0CCE6-ED1F-4CA1-BC80-6ADC0899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8709E-40AB-4154-B633-2D4011BB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A9496-9D3D-49AA-A419-A6121BD0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FBF7D-B2E4-4BFC-93CA-241752CA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0A69-F573-43CE-A271-4C4E4AFAD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07800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405B2-6440-4AD6-842F-AFF46B98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E0990-AA79-4EDE-9381-9DF596841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07800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07800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07800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4637A-79F5-4AAE-B239-59EBFA3C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F30F3-8E24-4012-A33F-4DA2E3020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31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E9545-F9FD-4A74-9C1D-B28E512F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F25097-DDC8-433D-BCC9-74D73D01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73DA2-B970-489B-9D4C-80CF8B45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EB2F6E-8265-44F4-80CB-4CCE9AB3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1763640" y="195120"/>
            <a:ext cx="5975280" cy="41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297C2-4632-47B4-BE4C-3D658D6C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694BD-39FF-464F-8622-C74BFE11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31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58C4-F749-4C99-A76A-29AC7561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E11D3-08F0-4E2E-A2FA-13FC59B2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90938-BE16-437B-B9BA-CB134622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307800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E126B-739E-4466-9B16-A47CE4BB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E1DE28-254A-4275-AE62-A99132CF1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307800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307800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307800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48E2B0-EEBF-4784-83BF-4DB237BA6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2565-484C-4E1A-BD61-981A4674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6646-F89A-4DC4-AB96-42D7F6EC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43D8-3380-44DB-BEE3-FB655FFE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763640" y="195120"/>
            <a:ext cx="5975280" cy="41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285D-5B67-4C2A-966F-34503E9B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59E0-2F44-4A7E-9AE5-D0F41A89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31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EAC1-28A8-4343-9C9A-34B5E04C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433D-6CD1-42B5-B236-CFC4F097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139D-5428-43C9-A135-FAD8368A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07800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F60F-0790-49CF-B577-F2CBC829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69A9-724C-47D7-BEA5-934C7F77F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07800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07800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07800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055D-B05A-47BB-91FC-78AC2C086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F35FE-CCC5-4B2D-9D3A-7D7A8ABF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31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88843-83EE-4CDE-B6EC-127A28F0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98AAB-D730-4A77-BDF1-E2CFA393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F5DEE-18BF-4A2A-A188-E8929025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BAE1E-60B7-4654-A0D6-A14377AB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E64C-087E-4064-9878-D6D1EB01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763640" y="195120"/>
            <a:ext cx="5975280" cy="41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8718A-8AA8-4BF2-84F9-CC6C34FF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D7E87-13E0-47E3-BD2C-CEEAF08A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B54BF-8AF9-45DD-A041-8644FFA5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18A96-3BC3-4104-879C-4244A9BE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07800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D66B5-6366-4766-90D2-2C3EC087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8BDAC-8DC2-4576-8B75-2CCF4F36F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07800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07800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07800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4D46D-43B7-4B9A-AD1E-F5569AF2F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8E136-6007-4FC1-9A7A-500547DF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31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41FAF-4098-4ABF-93F7-6591EB20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4E981-51DC-44FF-A548-1371B68D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0959-22D9-483A-B3FB-3F147585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0D6E8-7DC5-4ECE-A2DE-3B4FEABB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78BD2-9C3F-4D33-A117-624DECB2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763640" y="195120"/>
            <a:ext cx="5975280" cy="41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428F7-00E0-41FA-B8B2-EBFCA941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4D077-0F23-44F4-AC1A-4A47C211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BDCDF-8B53-4CF5-9F1C-5BB7C139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7011A-F09B-4DD0-97D9-6D97B2B0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07800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A04BD-7C2E-4F84-B30C-09E960B8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66DD9-25E8-4E59-BBA4-BC2027B22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07800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07800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07800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143EC-3DBC-4A8C-883C-AF4A06938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40027-D869-456A-A033-83E4F645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CCB7-9774-4E9C-8C23-797478A4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31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2E9EE-9F65-4206-AA0D-D706DCA4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88A23-8468-4C66-9266-8270F955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36845-AF6F-4CB7-9FE8-E0EBFBFF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9700A-9889-4658-9378-3C4FC318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763640" y="195120"/>
            <a:ext cx="5975280" cy="41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DD04B-A175-4448-84FC-FFC107EE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A7C7C-36D9-4061-BD15-1C7D882C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B9111-29BA-4381-BF3E-270AE1F9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DAEE2-2E2C-4F27-BD0B-7CD6402B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07800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4442A-25FD-43D9-BF84-1FD8E8FC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2BF8E-F75B-4A8D-B543-93550921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763640" y="195120"/>
            <a:ext cx="5975280" cy="41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D93E-99C5-429F-B19B-C70F6D30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07800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07800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07800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6BD2F-381C-40EE-9F31-B6FC140D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030B4-9165-46CB-B69E-AA9D48303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31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0726A-1551-481B-BED5-377A1164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D2EFC-FA28-4398-A3F7-A40279FA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36FAD-D157-433B-A76A-81B0E1E2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7007F-2FAF-40B6-BE48-643C7D8A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763640" y="195120"/>
            <a:ext cx="5975280" cy="41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0F194-F9E6-4587-9093-8556AAFB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B65EC-4B92-4114-963E-FF09CCC8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B51E3-F6DE-4C4B-B1F0-224E3F81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870BE-D946-4BE4-9B55-F74D45D8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49ED-BBB6-4B0B-BA71-7864E0F5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07800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8CA03-4FB2-4176-80E8-0147E31B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C0552-F7F1-4330-9236-97B2691EE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07800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07800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07800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EB36B-E969-4B84-A976-F4862DA6D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238AC-7CFE-4603-8BE5-6A2337EE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31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E985D-87BC-4251-A7C7-59AFD749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B5DC6-A8A9-4A6A-B5C3-AB059F1E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1EB9A-53AA-4249-AB58-1391E302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2ED0D-DCEA-4AB4-B3E4-0BE84BB9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1763640" y="195120"/>
            <a:ext cx="5975280" cy="41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B895A-5B81-47C9-B079-3EABA501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E3952-3B73-4259-A5F2-D90FC65A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AFE5-A3C5-46E2-BCA8-A1895225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E4CE7-95B7-4DC3-B7DF-05049AE8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BC31B-0DC5-4DF3-91F3-E85FEF55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07800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7C233-2EA6-40AD-8B05-6F39757C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28AEF-205B-49D2-A304-6646488D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07800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07800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07800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50308-10E3-4D71-B5C0-87F15242B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0D5F8-8D53-47B4-BDE3-41AA303F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31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AB9D6-F4EE-446B-9B61-B382CC50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99A51-B284-4CF5-988D-7D9692BB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6555F-A3B3-4FA6-8E73-09268449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C4507-BC5D-456B-9465-FE1CAB83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9A38-6099-4337-9B6E-B1AE7A58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1763640" y="195120"/>
            <a:ext cx="5975280" cy="41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F8893-E873-4CB9-9801-5A982479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12CF7-307A-4D90-8568-CC479C53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4C691-AE8D-4220-979D-5FD7848A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CDF7B-AA61-44D0-8859-DE3120F3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07800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319A6-1425-47E7-89A1-C716C997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078000"/>
            <a:ext cx="40158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C1A13-5AE1-4F07-9042-A11CFDDA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07800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07800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078000"/>
            <a:ext cx="264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C3680-AE48-44FA-BFE2-CE759BDC7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42491-5B08-4F9D-82A4-A0389E7A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31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2B59A1-7922-49E1-9619-F1CB4247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3F502-F2B2-49BF-8585-49C78B71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6.pn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image" Target="../media/image11.jpeg"/><Relationship Id="rId14" Type="http://schemas.openxmlformats.org/officeDocument/2006/relationships/image" Target="../media/image12.png"/><Relationship Id="rId15" Type="http://schemas.openxmlformats.org/officeDocument/2006/relationships/image" Target="../media/image13.jpeg"/><Relationship Id="rId16" Type="http://schemas.openxmlformats.org/officeDocument/2006/relationships/image" Target="../media/image14.png"/><Relationship Id="rId17" Type="http://schemas.openxmlformats.org/officeDocument/2006/relationships/image" Target="../media/image15.jpeg"/><Relationship Id="rId18" Type="http://schemas.openxmlformats.org/officeDocument/2006/relationships/slideLayout" Target="../slideLayouts/slideLayout13.xml"/><Relationship Id="rId19" Type="http://schemas.openxmlformats.org/officeDocument/2006/relationships/slideLayout" Target="../slideLayouts/slideLayout14.xml"/><Relationship Id="rId20" Type="http://schemas.openxmlformats.org/officeDocument/2006/relationships/slideLayout" Target="../slideLayouts/slideLayout15.xml"/><Relationship Id="rId21" Type="http://schemas.openxmlformats.org/officeDocument/2006/relationships/slideLayout" Target="../slideLayouts/slideLayout16.xml"/><Relationship Id="rId22" Type="http://schemas.openxmlformats.org/officeDocument/2006/relationships/slideLayout" Target="../slideLayouts/slideLayout17.xml"/><Relationship Id="rId23" Type="http://schemas.openxmlformats.org/officeDocument/2006/relationships/slideLayout" Target="../slideLayouts/slideLayout18.xml"/><Relationship Id="rId24" Type="http://schemas.openxmlformats.org/officeDocument/2006/relationships/slideLayout" Target="../slideLayouts/slideLayout19.xml"/><Relationship Id="rId25" Type="http://schemas.openxmlformats.org/officeDocument/2006/relationships/slideLayout" Target="../slideLayouts/slideLayout20.xml"/><Relationship Id="rId26" Type="http://schemas.openxmlformats.org/officeDocument/2006/relationships/slideLayout" Target="../slideLayouts/slideLayout21.xml"/><Relationship Id="rId27" Type="http://schemas.openxmlformats.org/officeDocument/2006/relationships/slideLayout" Target="../slideLayouts/slideLayout22.xml"/><Relationship Id="rId28" Type="http://schemas.openxmlformats.org/officeDocument/2006/relationships/slideLayout" Target="../slideLayouts/slideLayout23.xml"/><Relationship Id="rId2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b2224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00"/>
              </a:spcBef>
              <a:spcAft>
                <a:spcPts val="601"/>
              </a:spcAft>
              <a:buClr>
                <a:srgbClr val="ab22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700"/>
              </a:spcBef>
              <a:spcAft>
                <a:spcPts val="601"/>
              </a:spcAft>
              <a:buClr>
                <a:srgbClr val="ab22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243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F4A5-FADC-4D68-BF52-45559A85643F}" type="datetime2">
              <a:rPr b="0" lang="de-DE" sz="1100" spc="-1" strike="noStrike">
                <a:solidFill>
                  <a:srgbClr val="898989"/>
                </a:solidFill>
                <a:latin typeface="Times New Roman"/>
              </a:rPr>
              <a:t>Mittwoch, 29. Juli 20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788000" y="4766760"/>
            <a:ext cx="3240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informiert über das Online-Auswei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72000" y="4766760"/>
            <a:ext cx="5144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FC85-A306-4106-8419-467A21AE37BA}" type="slidenum">
              <a:rPr b="1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69840" y="90360"/>
            <a:ext cx="1727280" cy="5907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C:\Users\Ruphi\AppData\Local\Microsoft\Windows\Temporary Internet Files\Content.Outlook\F001ATTM\De-Mail_blau_freigestellt_PPT-geignet.png"/>
          <p:cNvPicPr/>
          <p:nvPr/>
        </p:nvPicPr>
        <p:blipFill>
          <a:blip r:embed="rId3"/>
          <a:stretch/>
        </p:blipFill>
        <p:spPr>
          <a:xfrm>
            <a:off x="179280" y="622440"/>
            <a:ext cx="376200" cy="455400"/>
          </a:xfrm>
          <a:prstGeom prst="rect">
            <a:avLst/>
          </a:prstGeom>
          <a:ln w="0">
            <a:noFill/>
          </a:ln>
        </p:spPr>
      </p:pic>
      <p:pic>
        <p:nvPicPr>
          <p:cNvPr id="7" name="Grafik 1" descr=""/>
          <p:cNvPicPr/>
          <p:nvPr/>
        </p:nvPicPr>
        <p:blipFill>
          <a:blip r:embed="rId4"/>
          <a:stretch/>
        </p:blipFill>
        <p:spPr>
          <a:xfrm>
            <a:off x="7667640" y="54000"/>
            <a:ext cx="1290600" cy="125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"/>
          <p:cNvPicPr/>
          <p:nvPr/>
        </p:nvPicPr>
        <p:blipFill>
          <a:blip r:embed="rId2"/>
          <a:stretch/>
        </p:blipFill>
        <p:spPr>
          <a:xfrm>
            <a:off x="69840" y="90360"/>
            <a:ext cx="1727280" cy="5907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C:\Users\Ruphi\AppData\Local\Microsoft\Windows\Temporary Internet Files\Content.Outlook\F001ATTM\De-Mail_blau_freigestellt_PPT-geignet.png"/>
          <p:cNvPicPr/>
          <p:nvPr/>
        </p:nvPicPr>
        <p:blipFill>
          <a:blip r:embed="rId3"/>
          <a:stretch/>
        </p:blipFill>
        <p:spPr>
          <a:xfrm>
            <a:off x="179280" y="622440"/>
            <a:ext cx="376200" cy="455400"/>
          </a:xfrm>
          <a:prstGeom prst="rect">
            <a:avLst/>
          </a:prstGeom>
          <a:ln w="0">
            <a:noFill/>
          </a:ln>
        </p:spPr>
      </p:pic>
      <p:pic>
        <p:nvPicPr>
          <p:cNvPr id="419" name="Grafik 1" descr=""/>
          <p:cNvPicPr/>
          <p:nvPr/>
        </p:nvPicPr>
        <p:blipFill>
          <a:blip r:embed="rId4"/>
          <a:stretch/>
        </p:blipFill>
        <p:spPr>
          <a:xfrm>
            <a:off x="7667640" y="54000"/>
            <a:ext cx="1290600" cy="1254240"/>
          </a:xfrm>
          <a:prstGeom prst="rect">
            <a:avLst/>
          </a:prstGeom>
          <a:ln w="0">
            <a:noFill/>
          </a:ln>
        </p:spPr>
      </p:pic>
      <p:pic>
        <p:nvPicPr>
          <p:cNvPr id="420" name="Grafik 1" descr=""/>
          <p:cNvPicPr/>
          <p:nvPr/>
        </p:nvPicPr>
        <p:blipFill>
          <a:blip r:embed="rId5"/>
          <a:stretch/>
        </p:blipFill>
        <p:spPr>
          <a:xfrm>
            <a:off x="2700360" y="4732200"/>
            <a:ext cx="2193840" cy="33192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b2224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00"/>
              </a:spcBef>
              <a:spcAft>
                <a:spcPts val="601"/>
              </a:spcAft>
              <a:buClr>
                <a:srgbClr val="ab22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700"/>
              </a:spcBef>
              <a:spcAft>
                <a:spcPts val="601"/>
              </a:spcAft>
              <a:buClr>
                <a:srgbClr val="ab22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243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4672-E3F9-42A5-8454-4B78FD2CC5AF}" type="datetime2">
              <a:rPr b="0" lang="de-DE" sz="1100" spc="-1" strike="noStrike">
                <a:solidFill>
                  <a:srgbClr val="898989"/>
                </a:solidFill>
                <a:latin typeface="Times New Roman"/>
              </a:rPr>
              <a:t>Mittwoch, 29. Juli 20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4788000" y="4766760"/>
            <a:ext cx="3240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informiert über das Online-Auswei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172000" y="4766760"/>
            <a:ext cx="5144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B53A-518D-4E48-8074-F1FAAEABB9D8}" type="slidenum">
              <a:rPr b="1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"/>
          <p:cNvPicPr/>
          <p:nvPr/>
        </p:nvPicPr>
        <p:blipFill>
          <a:blip r:embed="rId2"/>
          <a:stretch/>
        </p:blipFill>
        <p:spPr>
          <a:xfrm>
            <a:off x="69840" y="90360"/>
            <a:ext cx="1727280" cy="5907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2" descr="C:\Users\Ruphi\AppData\Local\Microsoft\Windows\Temporary Internet Files\Content.Outlook\F001ATTM\De-Mail_blau_freigestellt_PPT-geignet.png"/>
          <p:cNvPicPr/>
          <p:nvPr/>
        </p:nvPicPr>
        <p:blipFill>
          <a:blip r:embed="rId3"/>
          <a:stretch/>
        </p:blipFill>
        <p:spPr>
          <a:xfrm>
            <a:off x="179280" y="622440"/>
            <a:ext cx="376200" cy="455400"/>
          </a:xfrm>
          <a:prstGeom prst="rect">
            <a:avLst/>
          </a:prstGeom>
          <a:ln w="0">
            <a:noFill/>
          </a:ln>
        </p:spPr>
      </p:pic>
      <p:pic>
        <p:nvPicPr>
          <p:cNvPr id="464" name="Grafik 1" descr=""/>
          <p:cNvPicPr/>
          <p:nvPr/>
        </p:nvPicPr>
        <p:blipFill>
          <a:blip r:embed="rId4"/>
          <a:stretch/>
        </p:blipFill>
        <p:spPr>
          <a:xfrm>
            <a:off x="7667640" y="54000"/>
            <a:ext cx="1290600" cy="1254240"/>
          </a:xfrm>
          <a:prstGeom prst="rect">
            <a:avLst/>
          </a:prstGeom>
          <a:ln w="0">
            <a:noFill/>
          </a:ln>
        </p:spPr>
      </p:pic>
      <p:pic>
        <p:nvPicPr>
          <p:cNvPr id="465" name="Grafik 1" descr=""/>
          <p:cNvPicPr/>
          <p:nvPr/>
        </p:nvPicPr>
        <p:blipFill>
          <a:blip r:embed="rId5"/>
          <a:stretch/>
        </p:blipFill>
        <p:spPr>
          <a:xfrm>
            <a:off x="2700360" y="4732200"/>
            <a:ext cx="2193840" cy="33192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b2224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00"/>
              </a:spcBef>
              <a:spcAft>
                <a:spcPts val="601"/>
              </a:spcAft>
              <a:buClr>
                <a:srgbClr val="ab22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700"/>
              </a:spcBef>
              <a:spcAft>
                <a:spcPts val="601"/>
              </a:spcAft>
              <a:buClr>
                <a:srgbClr val="ab22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243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CEC9-5703-45F8-BD26-79FDFF5D4F22}" type="datetime2">
              <a:rPr b="0" lang="de-DE" sz="1100" spc="-1" strike="noStrike">
                <a:solidFill>
                  <a:srgbClr val="898989"/>
                </a:solidFill>
                <a:latin typeface="Times New Roman"/>
              </a:rPr>
              <a:t>Mittwoch, 29. Juli 20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2"/>
          </p:nvPr>
        </p:nvSpPr>
        <p:spPr>
          <a:xfrm>
            <a:off x="4788000" y="4766760"/>
            <a:ext cx="3240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informiert über das Online-Auswei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3"/>
          </p:nvPr>
        </p:nvSpPr>
        <p:spPr>
          <a:xfrm>
            <a:off x="8172000" y="4766760"/>
            <a:ext cx="5144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E38B-D1A6-4F2A-B8FF-09E15C3066E5}" type="slidenum">
              <a:rPr b="1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"/>
          <p:cNvPicPr/>
          <p:nvPr/>
        </p:nvPicPr>
        <p:blipFill>
          <a:blip r:embed="rId2"/>
          <a:stretch/>
        </p:blipFill>
        <p:spPr>
          <a:xfrm>
            <a:off x="69840" y="90360"/>
            <a:ext cx="1727280" cy="5907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2" descr="C:\Users\Ruphi\AppData\Local\Microsoft\Windows\Temporary Internet Files\Content.Outlook\F001ATTM\De-Mail_blau_freigestellt_PPT-geignet.png"/>
          <p:cNvPicPr/>
          <p:nvPr/>
        </p:nvPicPr>
        <p:blipFill>
          <a:blip r:embed="rId3"/>
          <a:stretch/>
        </p:blipFill>
        <p:spPr>
          <a:xfrm>
            <a:off x="179280" y="622440"/>
            <a:ext cx="376200" cy="455400"/>
          </a:xfrm>
          <a:prstGeom prst="rect">
            <a:avLst/>
          </a:prstGeom>
          <a:ln w="0">
            <a:noFill/>
          </a:ln>
        </p:spPr>
      </p:pic>
      <p:pic>
        <p:nvPicPr>
          <p:cNvPr id="509" name="Grafik 1" descr=""/>
          <p:cNvPicPr/>
          <p:nvPr/>
        </p:nvPicPr>
        <p:blipFill>
          <a:blip r:embed="rId4"/>
          <a:stretch/>
        </p:blipFill>
        <p:spPr>
          <a:xfrm>
            <a:off x="7667640" y="54000"/>
            <a:ext cx="1290600" cy="1254240"/>
          </a:xfrm>
          <a:prstGeom prst="rect">
            <a:avLst/>
          </a:prstGeom>
          <a:ln w="0">
            <a:noFill/>
          </a:ln>
        </p:spPr>
      </p:pic>
      <p:pic>
        <p:nvPicPr>
          <p:cNvPr id="510" name="Grafik 1" descr=""/>
          <p:cNvPicPr/>
          <p:nvPr/>
        </p:nvPicPr>
        <p:blipFill>
          <a:blip r:embed="rId5"/>
          <a:stretch/>
        </p:blipFill>
        <p:spPr>
          <a:xfrm>
            <a:off x="2700360" y="4732200"/>
            <a:ext cx="2193840" cy="33192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b2224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00"/>
              </a:spcBef>
              <a:spcAft>
                <a:spcPts val="601"/>
              </a:spcAft>
              <a:buClr>
                <a:srgbClr val="ab22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700"/>
              </a:spcBef>
              <a:spcAft>
                <a:spcPts val="601"/>
              </a:spcAft>
              <a:buClr>
                <a:srgbClr val="ab22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243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8917-0F4B-44E4-80DB-EDDAC3497213}" type="datetime2">
              <a:rPr b="0" lang="de-DE" sz="1100" spc="-1" strike="noStrike">
                <a:solidFill>
                  <a:srgbClr val="898989"/>
                </a:solidFill>
                <a:latin typeface="Times New Roman"/>
              </a:rPr>
              <a:t>Mittwoch, 29. Juli 20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35"/>
          </p:nvPr>
        </p:nvSpPr>
        <p:spPr>
          <a:xfrm>
            <a:off x="4788000" y="4766760"/>
            <a:ext cx="3240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informiert über das Online-Auswei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6"/>
          </p:nvPr>
        </p:nvSpPr>
        <p:spPr>
          <a:xfrm>
            <a:off x="8172000" y="4766760"/>
            <a:ext cx="5144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532F-67D9-425D-AED9-D15452D7280F}" type="slidenum">
              <a:rPr b="1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69840" y="90360"/>
            <a:ext cx="1727280" cy="590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Ruphi\AppData\Local\Microsoft\Windows\Temporary Internet Files\Content.Outlook\F001ATTM\De-Mail_blau_freigestellt_PPT-geignet.png"/>
          <p:cNvPicPr/>
          <p:nvPr/>
        </p:nvPicPr>
        <p:blipFill>
          <a:blip r:embed="rId3"/>
          <a:stretch/>
        </p:blipFill>
        <p:spPr>
          <a:xfrm>
            <a:off x="179280" y="622440"/>
            <a:ext cx="376200" cy="455400"/>
          </a:xfrm>
          <a:prstGeom prst="rect">
            <a:avLst/>
          </a:prstGeom>
          <a:ln w="0">
            <a:noFill/>
          </a:ln>
        </p:spPr>
      </p:pic>
      <p:pic>
        <p:nvPicPr>
          <p:cNvPr id="46" name="Grafik 1" descr=""/>
          <p:cNvPicPr/>
          <p:nvPr/>
        </p:nvPicPr>
        <p:blipFill>
          <a:blip r:embed="rId4"/>
          <a:stretch/>
        </p:blipFill>
        <p:spPr>
          <a:xfrm>
            <a:off x="7667640" y="54000"/>
            <a:ext cx="1290600" cy="1254240"/>
          </a:xfrm>
          <a:prstGeom prst="rect">
            <a:avLst/>
          </a:prstGeom>
          <a:ln w="0">
            <a:noFill/>
          </a:ln>
        </p:spPr>
      </p:pic>
      <p:pic>
        <p:nvPicPr>
          <p:cNvPr id="47" name="Grafik 7" descr="Hauptbühne.png"/>
          <p:cNvPicPr/>
          <p:nvPr/>
        </p:nvPicPr>
        <p:blipFill>
          <a:blip r:embed="rId5"/>
          <a:stretch/>
        </p:blipFill>
        <p:spPr>
          <a:xfrm>
            <a:off x="444600" y="1200240"/>
            <a:ext cx="8229600" cy="2597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6"/>
          <a:stretch/>
        </p:blipFill>
        <p:spPr>
          <a:xfrm>
            <a:off x="585720" y="4443480"/>
            <a:ext cx="1049400" cy="33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Object 5"/>
          <p:cNvGraphicFramePr/>
          <p:nvPr/>
        </p:nvGraphicFramePr>
        <p:xfrm>
          <a:off x="5018040" y="4513320"/>
          <a:ext cx="871560" cy="198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18040" y="4513320"/>
                    <a:ext cx="87156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Picture 6" descr="T_Kurzform_weiss_3C"/>
          <p:cNvPicPr/>
          <p:nvPr/>
        </p:nvPicPr>
        <p:blipFill>
          <a:blip r:embed="rId9"/>
          <a:stretch/>
        </p:blipFill>
        <p:spPr>
          <a:xfrm>
            <a:off x="7896240" y="4460760"/>
            <a:ext cx="919080" cy="303480"/>
          </a:xfrm>
          <a:prstGeom prst="rect">
            <a:avLst/>
          </a:prstGeom>
          <a:ln w="0">
            <a:noFill/>
          </a:ln>
        </p:spPr>
      </p:pic>
      <p:pic>
        <p:nvPicPr>
          <p:cNvPr id="52" name="Grafik 23" descr="logolandkreisweiss2.jpg"/>
          <p:cNvPicPr/>
          <p:nvPr/>
        </p:nvPicPr>
        <p:blipFill>
          <a:blip r:embed="rId10"/>
          <a:stretch/>
        </p:blipFill>
        <p:spPr>
          <a:xfrm>
            <a:off x="4044960" y="4448160"/>
            <a:ext cx="325440" cy="326880"/>
          </a:xfrm>
          <a:prstGeom prst="rect">
            <a:avLst/>
          </a:prstGeom>
          <a:ln w="0">
            <a:noFill/>
          </a:ln>
        </p:spPr>
      </p:pic>
      <p:pic>
        <p:nvPicPr>
          <p:cNvPr id="53" name="Grafik 14" descr="LogoLKKitzingen"/>
          <p:cNvPicPr/>
          <p:nvPr/>
        </p:nvPicPr>
        <p:blipFill>
          <a:blip r:embed="rId11"/>
          <a:stretch/>
        </p:blipFill>
        <p:spPr>
          <a:xfrm>
            <a:off x="4359240" y="4489560"/>
            <a:ext cx="655560" cy="245880"/>
          </a:xfrm>
          <a:prstGeom prst="rect">
            <a:avLst/>
          </a:prstGeom>
          <a:ln w="0">
            <a:noFill/>
          </a:ln>
        </p:spPr>
      </p:pic>
      <p:pic>
        <p:nvPicPr>
          <p:cNvPr id="54" name="Grafik 15" descr=""/>
          <p:cNvPicPr/>
          <p:nvPr/>
        </p:nvPicPr>
        <p:blipFill>
          <a:blip r:embed="rId12"/>
          <a:stretch/>
        </p:blipFill>
        <p:spPr>
          <a:xfrm>
            <a:off x="6967440" y="4510080"/>
            <a:ext cx="844560" cy="204840"/>
          </a:xfrm>
          <a:prstGeom prst="rect">
            <a:avLst/>
          </a:prstGeom>
          <a:ln w="0">
            <a:noFill/>
          </a:ln>
        </p:spPr>
      </p:pic>
      <p:pic>
        <p:nvPicPr>
          <p:cNvPr id="55" name="Grafik 16" descr=""/>
          <p:cNvPicPr/>
          <p:nvPr/>
        </p:nvPicPr>
        <p:blipFill>
          <a:blip r:embed="rId13"/>
          <a:stretch/>
        </p:blipFill>
        <p:spPr>
          <a:xfrm>
            <a:off x="6013440" y="4530600"/>
            <a:ext cx="800280" cy="212760"/>
          </a:xfrm>
          <a:prstGeom prst="rect">
            <a:avLst/>
          </a:prstGeom>
          <a:ln w="0">
            <a:noFill/>
          </a:ln>
        </p:spPr>
      </p:pic>
      <p:pic>
        <p:nvPicPr>
          <p:cNvPr id="56" name="Grafik 17" descr=""/>
          <p:cNvPicPr/>
          <p:nvPr/>
        </p:nvPicPr>
        <p:blipFill>
          <a:blip r:embed="rId14"/>
          <a:stretch/>
        </p:blipFill>
        <p:spPr>
          <a:xfrm>
            <a:off x="341280" y="4530600"/>
            <a:ext cx="212760" cy="219240"/>
          </a:xfrm>
          <a:prstGeom prst="rect">
            <a:avLst/>
          </a:prstGeom>
          <a:ln w="0">
            <a:noFill/>
          </a:ln>
        </p:spPr>
      </p:pic>
      <p:pic>
        <p:nvPicPr>
          <p:cNvPr id="57" name="Grafik 18" descr=""/>
          <p:cNvPicPr/>
          <p:nvPr/>
        </p:nvPicPr>
        <p:blipFill>
          <a:blip r:embed="rId15"/>
          <a:stretch/>
        </p:blipFill>
        <p:spPr>
          <a:xfrm>
            <a:off x="3408480" y="4460760"/>
            <a:ext cx="618840" cy="308160"/>
          </a:xfrm>
          <a:prstGeom prst="rect">
            <a:avLst/>
          </a:prstGeom>
          <a:ln w="0">
            <a:noFill/>
          </a:ln>
        </p:spPr>
      </p:pic>
      <p:pic>
        <p:nvPicPr>
          <p:cNvPr id="58" name="Grafik 19" descr=""/>
          <p:cNvPicPr/>
          <p:nvPr/>
        </p:nvPicPr>
        <p:blipFill>
          <a:blip r:embed="rId16"/>
          <a:stretch/>
        </p:blipFill>
        <p:spPr>
          <a:xfrm>
            <a:off x="2851200" y="4513320"/>
            <a:ext cx="544320" cy="222120"/>
          </a:xfrm>
          <a:prstGeom prst="rect">
            <a:avLst/>
          </a:prstGeom>
          <a:ln w="0">
            <a:noFill/>
          </a:ln>
        </p:spPr>
      </p:pic>
      <p:pic>
        <p:nvPicPr>
          <p:cNvPr id="59" name="Grafik 20" descr=""/>
          <p:cNvPicPr/>
          <p:nvPr/>
        </p:nvPicPr>
        <p:blipFill>
          <a:blip r:embed="rId17"/>
          <a:stretch/>
        </p:blipFill>
        <p:spPr>
          <a:xfrm>
            <a:off x="1638360" y="4506840"/>
            <a:ext cx="1168200" cy="2304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b2224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00"/>
              </a:spcBef>
              <a:spcAft>
                <a:spcPts val="601"/>
              </a:spcAft>
              <a:buClr>
                <a:srgbClr val="ab22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700"/>
              </a:spcBef>
              <a:spcAft>
                <a:spcPts val="601"/>
              </a:spcAft>
              <a:buClr>
                <a:srgbClr val="ab22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243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FF1A-E4E2-4125-A1EE-4A7FEDCA90D2}" type="datetime2">
              <a:rPr b="0" lang="de-DE" sz="1100" spc="-1" strike="noStrike">
                <a:solidFill>
                  <a:srgbClr val="898989"/>
                </a:solidFill>
                <a:latin typeface="Times New Roman"/>
              </a:rPr>
              <a:t>Mittwoch, 29. Juli 20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788000" y="4766760"/>
            <a:ext cx="3240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informiert über das Online-Auswei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8172000" y="4766760"/>
            <a:ext cx="5144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3F7C-8036-415A-925E-07E3ED04EEF3}" type="slidenum">
              <a:rPr b="1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8"/>
    <p:sldLayoutId id="2147483663" r:id="rId19"/>
    <p:sldLayoutId id="2147483664" r:id="rId20"/>
    <p:sldLayoutId id="2147483665" r:id="rId21"/>
    <p:sldLayoutId id="2147483666" r:id="rId22"/>
    <p:sldLayoutId id="2147483667" r:id="rId23"/>
    <p:sldLayoutId id="2147483668" r:id="rId24"/>
    <p:sldLayoutId id="2147483669" r:id="rId25"/>
    <p:sldLayoutId id="2147483670" r:id="rId26"/>
    <p:sldLayoutId id="2147483671" r:id="rId27"/>
    <p:sldLayoutId id="2147483672" r:id="rId28"/>
    <p:sldLayoutId id="2147483673" r:id="rId2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69840" y="90360"/>
            <a:ext cx="1727280" cy="590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Users\Ruphi\AppData\Local\Microsoft\Windows\Temporary Internet Files\Content.Outlook\F001ATTM\De-Mail_blau_freigestellt_PPT-geignet.png"/>
          <p:cNvPicPr/>
          <p:nvPr/>
        </p:nvPicPr>
        <p:blipFill>
          <a:blip r:embed="rId3"/>
          <a:stretch/>
        </p:blipFill>
        <p:spPr>
          <a:xfrm>
            <a:off x="179280" y="622440"/>
            <a:ext cx="376200" cy="455400"/>
          </a:xfrm>
          <a:prstGeom prst="rect">
            <a:avLst/>
          </a:prstGeom>
          <a:ln w="0">
            <a:noFill/>
          </a:ln>
        </p:spPr>
      </p:pic>
      <p:pic>
        <p:nvPicPr>
          <p:cNvPr id="103" name="Grafik 1" descr=""/>
          <p:cNvPicPr/>
          <p:nvPr/>
        </p:nvPicPr>
        <p:blipFill>
          <a:blip r:embed="rId4"/>
          <a:stretch/>
        </p:blipFill>
        <p:spPr>
          <a:xfrm>
            <a:off x="7667640" y="54000"/>
            <a:ext cx="1290600" cy="1254240"/>
          </a:xfrm>
          <a:prstGeom prst="rect">
            <a:avLst/>
          </a:prstGeom>
          <a:ln w="0">
            <a:noFill/>
          </a:ln>
        </p:spPr>
      </p:pic>
      <p:sp>
        <p:nvSpPr>
          <p:cNvPr id="104" name="Gerade Verbindung 9"/>
          <p:cNvSpPr/>
          <p:nvPr/>
        </p:nvSpPr>
        <p:spPr>
          <a:xfrm flipH="1">
            <a:off x="468360" y="1058760"/>
            <a:ext cx="8207280" cy="0"/>
          </a:xfrm>
          <a:prstGeom prst="line">
            <a:avLst/>
          </a:prstGeom>
          <a:ln w="19080">
            <a:solidFill>
              <a:srgbClr val="4f8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Grafik 1" descr=""/>
          <p:cNvPicPr/>
          <p:nvPr/>
        </p:nvPicPr>
        <p:blipFill>
          <a:blip r:embed="rId5"/>
          <a:stretch/>
        </p:blipFill>
        <p:spPr>
          <a:xfrm>
            <a:off x="2700360" y="4732200"/>
            <a:ext cx="2193840" cy="331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b2224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00"/>
              </a:spcBef>
              <a:spcAft>
                <a:spcPts val="601"/>
              </a:spcAft>
              <a:buClr>
                <a:srgbClr val="ab22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700"/>
              </a:spcBef>
              <a:spcAft>
                <a:spcPts val="601"/>
              </a:spcAft>
              <a:buClr>
                <a:srgbClr val="ab22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243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36BD-CFC6-435D-B275-F3A13189E099}" type="datetime2">
              <a:rPr b="0" lang="de-DE" sz="1100" spc="-1" strike="noStrike">
                <a:solidFill>
                  <a:srgbClr val="898989"/>
                </a:solidFill>
                <a:latin typeface="Times New Roman"/>
              </a:rPr>
              <a:t>Mittwoch, 29. Juli 20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4788000" y="4766760"/>
            <a:ext cx="3240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informiert über das Online-Auswei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172000" y="4766760"/>
            <a:ext cx="5144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C86E-93D4-4484-97C4-BEF05ABA985C}" type="slidenum">
              <a:rPr b="1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69840" y="90360"/>
            <a:ext cx="1727280" cy="590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Users\Ruphi\AppData\Local\Microsoft\Windows\Temporary Internet Files\Content.Outlook\F001ATTM\De-Mail_blau_freigestellt_PPT-geignet.png"/>
          <p:cNvPicPr/>
          <p:nvPr/>
        </p:nvPicPr>
        <p:blipFill>
          <a:blip r:embed="rId3"/>
          <a:stretch/>
        </p:blipFill>
        <p:spPr>
          <a:xfrm>
            <a:off x="179280" y="622440"/>
            <a:ext cx="376200" cy="455400"/>
          </a:xfrm>
          <a:prstGeom prst="rect">
            <a:avLst/>
          </a:prstGeom>
          <a:ln w="0">
            <a:noFill/>
          </a:ln>
        </p:spPr>
      </p:pic>
      <p:pic>
        <p:nvPicPr>
          <p:cNvPr id="149" name="Grafik 1" descr=""/>
          <p:cNvPicPr/>
          <p:nvPr/>
        </p:nvPicPr>
        <p:blipFill>
          <a:blip r:embed="rId4"/>
          <a:stretch/>
        </p:blipFill>
        <p:spPr>
          <a:xfrm>
            <a:off x="7667640" y="54000"/>
            <a:ext cx="1290600" cy="1254240"/>
          </a:xfrm>
          <a:prstGeom prst="rect">
            <a:avLst/>
          </a:prstGeom>
          <a:ln w="0">
            <a:noFill/>
          </a:ln>
        </p:spPr>
      </p:pic>
      <p:pic>
        <p:nvPicPr>
          <p:cNvPr id="150" name="Grafik 1" descr=""/>
          <p:cNvPicPr/>
          <p:nvPr/>
        </p:nvPicPr>
        <p:blipFill>
          <a:blip r:embed="rId5"/>
          <a:stretch/>
        </p:blipFill>
        <p:spPr>
          <a:xfrm>
            <a:off x="2700360" y="4732200"/>
            <a:ext cx="2193840" cy="3319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b2224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00"/>
              </a:spcBef>
              <a:spcAft>
                <a:spcPts val="601"/>
              </a:spcAft>
              <a:buClr>
                <a:srgbClr val="ab22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700"/>
              </a:spcBef>
              <a:spcAft>
                <a:spcPts val="601"/>
              </a:spcAft>
              <a:buClr>
                <a:srgbClr val="ab22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243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4BAD-A401-4064-AE21-3EF7E182D09D}" type="datetime2">
              <a:rPr b="0" lang="de-DE" sz="1100" spc="-1" strike="noStrike">
                <a:solidFill>
                  <a:srgbClr val="898989"/>
                </a:solidFill>
                <a:latin typeface="Times New Roman"/>
              </a:rPr>
              <a:t>Mittwoch, 29. Juli 20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788000" y="4766760"/>
            <a:ext cx="3240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informiert über das Online-Auswei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172000" y="4766760"/>
            <a:ext cx="5144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B583-C5EC-4BA7-9273-CCA94B1EF343}" type="slidenum">
              <a:rPr b="1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69840" y="90360"/>
            <a:ext cx="1727280" cy="590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C:\Users\Ruphi\AppData\Local\Microsoft\Windows\Temporary Internet Files\Content.Outlook\F001ATTM\De-Mail_blau_freigestellt_PPT-geignet.png"/>
          <p:cNvPicPr/>
          <p:nvPr/>
        </p:nvPicPr>
        <p:blipFill>
          <a:blip r:embed="rId3"/>
          <a:stretch/>
        </p:blipFill>
        <p:spPr>
          <a:xfrm>
            <a:off x="179280" y="622440"/>
            <a:ext cx="376200" cy="455400"/>
          </a:xfrm>
          <a:prstGeom prst="rect">
            <a:avLst/>
          </a:prstGeom>
          <a:ln w="0">
            <a:noFill/>
          </a:ln>
        </p:spPr>
      </p:pic>
      <p:pic>
        <p:nvPicPr>
          <p:cNvPr id="194" name="Grafik 1" descr=""/>
          <p:cNvPicPr/>
          <p:nvPr/>
        </p:nvPicPr>
        <p:blipFill>
          <a:blip r:embed="rId4"/>
          <a:stretch/>
        </p:blipFill>
        <p:spPr>
          <a:xfrm>
            <a:off x="7667640" y="54000"/>
            <a:ext cx="1290600" cy="1254240"/>
          </a:xfrm>
          <a:prstGeom prst="rect">
            <a:avLst/>
          </a:prstGeom>
          <a:ln w="0">
            <a:noFill/>
          </a:ln>
        </p:spPr>
      </p:pic>
      <p:pic>
        <p:nvPicPr>
          <p:cNvPr id="195" name="Grafik 1" descr=""/>
          <p:cNvPicPr/>
          <p:nvPr/>
        </p:nvPicPr>
        <p:blipFill>
          <a:blip r:embed="rId5"/>
          <a:stretch/>
        </p:blipFill>
        <p:spPr>
          <a:xfrm>
            <a:off x="2700360" y="4732200"/>
            <a:ext cx="2193840" cy="331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b2224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00"/>
              </a:spcBef>
              <a:spcAft>
                <a:spcPts val="601"/>
              </a:spcAft>
              <a:buClr>
                <a:srgbClr val="ab22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700"/>
              </a:spcBef>
              <a:spcAft>
                <a:spcPts val="601"/>
              </a:spcAft>
              <a:buClr>
                <a:srgbClr val="ab22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243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38EF-E629-4C74-B3CB-51C508610823}" type="datetime2">
              <a:rPr b="0" lang="de-DE" sz="1100" spc="-1" strike="noStrike">
                <a:solidFill>
                  <a:srgbClr val="898989"/>
                </a:solidFill>
                <a:latin typeface="Times New Roman"/>
              </a:rPr>
              <a:t>Mittwoch, 29. Juli 20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4788000" y="4766760"/>
            <a:ext cx="3240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informiert über das Online-Auswei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8172000" y="4766760"/>
            <a:ext cx="5144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90D4-8E78-44AC-AA7A-0B59134E0F02}" type="slidenum">
              <a:rPr b="1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69840" y="90360"/>
            <a:ext cx="1727280" cy="59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C:\Users\Ruphi\AppData\Local\Microsoft\Windows\Temporary Internet Files\Content.Outlook\F001ATTM\De-Mail_blau_freigestellt_PPT-geignet.png"/>
          <p:cNvPicPr/>
          <p:nvPr/>
        </p:nvPicPr>
        <p:blipFill>
          <a:blip r:embed="rId3"/>
          <a:stretch/>
        </p:blipFill>
        <p:spPr>
          <a:xfrm>
            <a:off x="179280" y="622440"/>
            <a:ext cx="376200" cy="455400"/>
          </a:xfrm>
          <a:prstGeom prst="rect">
            <a:avLst/>
          </a:prstGeom>
          <a:ln w="0">
            <a:noFill/>
          </a:ln>
        </p:spPr>
      </p:pic>
      <p:pic>
        <p:nvPicPr>
          <p:cNvPr id="239" name="Grafik 1" descr=""/>
          <p:cNvPicPr/>
          <p:nvPr/>
        </p:nvPicPr>
        <p:blipFill>
          <a:blip r:embed="rId4"/>
          <a:stretch/>
        </p:blipFill>
        <p:spPr>
          <a:xfrm>
            <a:off x="7667640" y="54000"/>
            <a:ext cx="1290600" cy="1254240"/>
          </a:xfrm>
          <a:prstGeom prst="rect">
            <a:avLst/>
          </a:prstGeom>
          <a:ln w="0">
            <a:noFill/>
          </a:ln>
        </p:spPr>
      </p:pic>
      <p:pic>
        <p:nvPicPr>
          <p:cNvPr id="240" name="Grafik 1" descr=""/>
          <p:cNvPicPr/>
          <p:nvPr/>
        </p:nvPicPr>
        <p:blipFill>
          <a:blip r:embed="rId5"/>
          <a:stretch/>
        </p:blipFill>
        <p:spPr>
          <a:xfrm>
            <a:off x="2700360" y="4732200"/>
            <a:ext cx="2193840" cy="3319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b2224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00"/>
              </a:spcBef>
              <a:spcAft>
                <a:spcPts val="601"/>
              </a:spcAft>
              <a:buClr>
                <a:srgbClr val="ab22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700"/>
              </a:spcBef>
              <a:spcAft>
                <a:spcPts val="601"/>
              </a:spcAft>
              <a:buClr>
                <a:srgbClr val="ab22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243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E006-69F9-4775-A585-1080DE9D9834}" type="datetime2">
              <a:rPr b="0" lang="de-DE" sz="1100" spc="-1" strike="noStrike">
                <a:solidFill>
                  <a:srgbClr val="898989"/>
                </a:solidFill>
                <a:latin typeface="Times New Roman"/>
              </a:rPr>
              <a:t>Mittwoch, 29. Juli 20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4788000" y="4766760"/>
            <a:ext cx="3240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informiert über das Online-Auswei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8172000" y="4766760"/>
            <a:ext cx="5144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4AC5-1F9C-40DC-A297-514455FAF818}" type="slidenum">
              <a:rPr b="1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69840" y="90360"/>
            <a:ext cx="1727280" cy="5907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" descr="C:\Users\Ruphi\AppData\Local\Microsoft\Windows\Temporary Internet Files\Content.Outlook\F001ATTM\De-Mail_blau_freigestellt_PPT-geignet.png"/>
          <p:cNvPicPr/>
          <p:nvPr/>
        </p:nvPicPr>
        <p:blipFill>
          <a:blip r:embed="rId3"/>
          <a:stretch/>
        </p:blipFill>
        <p:spPr>
          <a:xfrm>
            <a:off x="179280" y="622440"/>
            <a:ext cx="376200" cy="455400"/>
          </a:xfrm>
          <a:prstGeom prst="rect">
            <a:avLst/>
          </a:prstGeom>
          <a:ln w="0">
            <a:noFill/>
          </a:ln>
        </p:spPr>
      </p:pic>
      <p:pic>
        <p:nvPicPr>
          <p:cNvPr id="284" name="Grafik 1" descr=""/>
          <p:cNvPicPr/>
          <p:nvPr/>
        </p:nvPicPr>
        <p:blipFill>
          <a:blip r:embed="rId4"/>
          <a:stretch/>
        </p:blipFill>
        <p:spPr>
          <a:xfrm>
            <a:off x="7667640" y="54000"/>
            <a:ext cx="1290600" cy="1254240"/>
          </a:xfrm>
          <a:prstGeom prst="rect">
            <a:avLst/>
          </a:prstGeom>
          <a:ln w="0">
            <a:noFill/>
          </a:ln>
        </p:spPr>
      </p:pic>
      <p:pic>
        <p:nvPicPr>
          <p:cNvPr id="285" name="Grafik 1" descr=""/>
          <p:cNvPicPr/>
          <p:nvPr/>
        </p:nvPicPr>
        <p:blipFill>
          <a:blip r:embed="rId5"/>
          <a:stretch/>
        </p:blipFill>
        <p:spPr>
          <a:xfrm>
            <a:off x="2700360" y="4732200"/>
            <a:ext cx="2193840" cy="3319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b2224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00"/>
              </a:spcBef>
              <a:spcAft>
                <a:spcPts val="601"/>
              </a:spcAft>
              <a:buClr>
                <a:srgbClr val="ab22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700"/>
              </a:spcBef>
              <a:spcAft>
                <a:spcPts val="601"/>
              </a:spcAft>
              <a:buClr>
                <a:srgbClr val="ab22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243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A533-6F74-4295-B9FB-532771835E26}" type="datetime2">
              <a:rPr b="0" lang="de-DE" sz="1100" spc="-1" strike="noStrike">
                <a:solidFill>
                  <a:srgbClr val="898989"/>
                </a:solidFill>
                <a:latin typeface="Times New Roman"/>
              </a:rPr>
              <a:t>Mittwoch, 29. Juli 20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788000" y="4766760"/>
            <a:ext cx="3240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informiert über das Online-Auswei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172000" y="4766760"/>
            <a:ext cx="5144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3106-5FED-4F64-815E-C59F86167120}" type="slidenum">
              <a:rPr b="1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"/>
          <p:cNvPicPr/>
          <p:nvPr/>
        </p:nvPicPr>
        <p:blipFill>
          <a:blip r:embed="rId2"/>
          <a:stretch/>
        </p:blipFill>
        <p:spPr>
          <a:xfrm>
            <a:off x="69840" y="90360"/>
            <a:ext cx="1727280" cy="5907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Users\Ruphi\AppData\Local\Microsoft\Windows\Temporary Internet Files\Content.Outlook\F001ATTM\De-Mail_blau_freigestellt_PPT-geignet.png"/>
          <p:cNvPicPr/>
          <p:nvPr/>
        </p:nvPicPr>
        <p:blipFill>
          <a:blip r:embed="rId3"/>
          <a:stretch/>
        </p:blipFill>
        <p:spPr>
          <a:xfrm>
            <a:off x="179280" y="622440"/>
            <a:ext cx="376200" cy="455400"/>
          </a:xfrm>
          <a:prstGeom prst="rect">
            <a:avLst/>
          </a:prstGeom>
          <a:ln w="0">
            <a:noFill/>
          </a:ln>
        </p:spPr>
      </p:pic>
      <p:pic>
        <p:nvPicPr>
          <p:cNvPr id="329" name="Grafik 1" descr=""/>
          <p:cNvPicPr/>
          <p:nvPr/>
        </p:nvPicPr>
        <p:blipFill>
          <a:blip r:embed="rId4"/>
          <a:stretch/>
        </p:blipFill>
        <p:spPr>
          <a:xfrm>
            <a:off x="7667640" y="54000"/>
            <a:ext cx="1290600" cy="1254240"/>
          </a:xfrm>
          <a:prstGeom prst="rect">
            <a:avLst/>
          </a:prstGeom>
          <a:ln w="0">
            <a:noFill/>
          </a:ln>
        </p:spPr>
      </p:pic>
      <p:pic>
        <p:nvPicPr>
          <p:cNvPr id="330" name="Grafik 9" descr=""/>
          <p:cNvPicPr/>
          <p:nvPr/>
        </p:nvPicPr>
        <p:blipFill>
          <a:blip r:embed="rId5"/>
          <a:stretch/>
        </p:blipFill>
        <p:spPr>
          <a:xfrm>
            <a:off x="2700360" y="4732200"/>
            <a:ext cx="2193840" cy="33192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b2224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00"/>
              </a:spcBef>
              <a:spcAft>
                <a:spcPts val="601"/>
              </a:spcAft>
              <a:buClr>
                <a:srgbClr val="ab22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700"/>
              </a:spcBef>
              <a:spcAft>
                <a:spcPts val="601"/>
              </a:spcAft>
              <a:buClr>
                <a:srgbClr val="ab22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3144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D978-AD86-46A8-9054-921086F5F633}" type="datetime2">
              <a:rPr b="0" lang="de-DE" sz="1100" spc="-1" strike="noStrike">
                <a:solidFill>
                  <a:srgbClr val="898989"/>
                </a:solidFill>
                <a:latin typeface="Times New Roman"/>
              </a:rPr>
              <a:t>Mittwoch, 29. Juli 20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4788000" y="4766760"/>
            <a:ext cx="3240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informiert über das Online-Auswei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8172000" y="4766760"/>
            <a:ext cx="5144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9B83-2F9C-49C2-A781-17B6574C4B30}" type="slidenum">
              <a:rPr b="1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69840" y="90360"/>
            <a:ext cx="1727280" cy="5907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C:\Users\Ruphi\AppData\Local\Microsoft\Windows\Temporary Internet Files\Content.Outlook\F001ATTM\De-Mail_blau_freigestellt_PPT-geignet.png"/>
          <p:cNvPicPr/>
          <p:nvPr/>
        </p:nvPicPr>
        <p:blipFill>
          <a:blip r:embed="rId3"/>
          <a:stretch/>
        </p:blipFill>
        <p:spPr>
          <a:xfrm>
            <a:off x="179280" y="622440"/>
            <a:ext cx="376200" cy="455400"/>
          </a:xfrm>
          <a:prstGeom prst="rect">
            <a:avLst/>
          </a:prstGeom>
          <a:ln w="0">
            <a:noFill/>
          </a:ln>
        </p:spPr>
      </p:pic>
      <p:pic>
        <p:nvPicPr>
          <p:cNvPr id="374" name="Grafik 1" descr=""/>
          <p:cNvPicPr/>
          <p:nvPr/>
        </p:nvPicPr>
        <p:blipFill>
          <a:blip r:embed="rId4"/>
          <a:stretch/>
        </p:blipFill>
        <p:spPr>
          <a:xfrm>
            <a:off x="7667640" y="54000"/>
            <a:ext cx="1290600" cy="1254240"/>
          </a:xfrm>
          <a:prstGeom prst="rect">
            <a:avLst/>
          </a:prstGeom>
          <a:ln w="0">
            <a:noFill/>
          </a:ln>
        </p:spPr>
      </p:pic>
      <p:pic>
        <p:nvPicPr>
          <p:cNvPr id="375" name="Grafik 1" descr=""/>
          <p:cNvPicPr/>
          <p:nvPr/>
        </p:nvPicPr>
        <p:blipFill>
          <a:blip r:embed="rId5"/>
          <a:stretch/>
        </p:blipFill>
        <p:spPr>
          <a:xfrm>
            <a:off x="2700360" y="4732200"/>
            <a:ext cx="2193840" cy="3319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763640" y="195120"/>
            <a:ext cx="59752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b2224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31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00"/>
              </a:spcBef>
              <a:spcAft>
                <a:spcPts val="601"/>
              </a:spcAft>
              <a:buClr>
                <a:srgbClr val="ab22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700"/>
              </a:spcBef>
              <a:spcAft>
                <a:spcPts val="601"/>
              </a:spcAft>
              <a:buClr>
                <a:srgbClr val="ab22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243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5387-1059-405C-8D74-15696302C585}" type="datetime2">
              <a:rPr b="0" lang="de-DE" sz="1100" spc="-1" strike="noStrike">
                <a:solidFill>
                  <a:srgbClr val="898989"/>
                </a:solidFill>
                <a:latin typeface="Times New Roman"/>
              </a:rPr>
              <a:t>Mittwoch, 29. Juli 20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4788000" y="4766760"/>
            <a:ext cx="3240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informiert über das Online-Auswei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172000" y="4766760"/>
            <a:ext cx="5144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D2EC-791B-4149-B3D3-FF5A740D22E2}" type="slidenum">
              <a:rPr b="1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1347840"/>
            <a:ext cx="7772400" cy="9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Sicherheit für digitale Services</a:t>
            </a:r>
            <a:endParaRPr b="1" lang="en-US" sz="28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684360" y="2355840"/>
            <a:ext cx="7775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Online-Ausweisen mit dem neuen Personalausw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ffffff"/>
                </a:solidFill>
                <a:latin typeface="Arial"/>
              </a:rPr>
              <a:t>Aktionsbündnis eID/De-Mail: </a:t>
            </a:r>
            <a:br>
              <a:rPr sz="600"/>
            </a:br>
            <a:br>
              <a:rPr sz="600"/>
            </a:br>
            <a:r>
              <a:rPr b="1" lang="de-DE" sz="600" spc="-1" strike="noStrike">
                <a:solidFill>
                  <a:srgbClr val="ffffff"/>
                </a:solidFill>
                <a:latin typeface="Arial"/>
              </a:rPr>
              <a:t>Buergerservice.org e.V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ffffff"/>
                </a:solidFill>
                <a:latin typeface="Arial"/>
              </a:rPr>
              <a:t>Hohenlindener Straße 4</a:t>
            </a:r>
            <a:br>
              <a:rPr sz="600"/>
            </a:br>
            <a:r>
              <a:rPr b="0" lang="de-DE" sz="600" spc="-1" strike="noStrike">
                <a:solidFill>
                  <a:srgbClr val="ffffff"/>
                </a:solidFill>
                <a:latin typeface="Arial"/>
              </a:rPr>
              <a:t>81677 Münche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ffffff"/>
                </a:solidFill>
                <a:latin typeface="Arial"/>
              </a:rPr>
              <a:t>Mobil:   +49 171 336666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ffffff"/>
                </a:solidFill>
                <a:latin typeface="Arial"/>
              </a:rPr>
              <a:t>Internet: </a:t>
            </a:r>
            <a:r>
              <a:rPr b="0" lang="de-DE" sz="600" spc="-1" strike="noStrike" u="sng">
                <a:solidFill>
                  <a:srgbClr val="ffffff"/>
                </a:solidFill>
                <a:uFillTx/>
                <a:latin typeface="Arial"/>
              </a:rPr>
              <a:t>http://www.buergerservice.or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ffffff"/>
                </a:solidFill>
                <a:latin typeface="Arial"/>
              </a:rPr>
              <a:t>E-Mail:   </a:t>
            </a:r>
            <a:r>
              <a:rPr b="0" lang="de-DE" sz="600" spc="-1" strike="noStrike" u="sng">
                <a:solidFill>
                  <a:srgbClr val="ffffff"/>
                </a:solidFill>
                <a:uFillTx/>
                <a:latin typeface="Arial"/>
              </a:rPr>
              <a:t>info@buergerservice.or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Fußzeilenplatzhalter 4"/>
          <p:cNvSpPr/>
          <p:nvPr/>
        </p:nvSpPr>
        <p:spPr>
          <a:xfrm>
            <a:off x="4788000" y="4767120"/>
            <a:ext cx="324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informiert über das Online-Auswei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55280" y="449280"/>
            <a:ext cx="7272360" cy="8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5489c2"/>
                </a:solidFill>
                <a:latin typeface="Arial"/>
              </a:rPr>
              <a:t>Sicherheit für digitale Services</a:t>
            </a:r>
            <a:endParaRPr b="1" lang="en-US" sz="36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604" name="Datumsplatzhalter 1"/>
          <p:cNvSpPr/>
          <p:nvPr/>
        </p:nvSpPr>
        <p:spPr>
          <a:xfrm>
            <a:off x="457200" y="4767120"/>
            <a:ext cx="224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8B3F-B550-4E85-81E7-697C433D2025}" type="datetime2">
              <a:rPr b="0" lang="de-DE" sz="1100" spc="-1" strike="noStrike">
                <a:solidFill>
                  <a:srgbClr val="898989"/>
                </a:solidFill>
                <a:latin typeface="Arial"/>
              </a:rPr>
              <a:t>Mittwoch, 29. Juli 20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oliennummernplatzhalter 3"/>
          <p:cNvSpPr/>
          <p:nvPr/>
        </p:nvSpPr>
        <p:spPr>
          <a:xfrm>
            <a:off x="8172360" y="4767120"/>
            <a:ext cx="51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F747-DEBE-4580-A237-5F1F8330E916}" type="slidenum">
              <a:rPr b="1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nPA-Spot-Kfz-Zulassung_mp4.mp4" descr=""/>
          <p:cNvPicPr/>
          <p:nvPr/>
        </p:nvPicPr>
        <p:blipFill>
          <a:blip r:embed="rId1"/>
          <a:stretch/>
        </p:blipFill>
        <p:spPr>
          <a:xfrm>
            <a:off x="1365120" y="1203480"/>
            <a:ext cx="6096240" cy="3429000"/>
          </a:xfrm>
          <a:prstGeom prst="rect">
            <a:avLst/>
          </a:prstGeom>
          <a:ln w="0">
            <a:noFill/>
          </a:ln>
        </p:spPr>
      </p:pic>
      <p:pic>
        <p:nvPicPr>
          <p:cNvPr id="607" name="Grafik 9" descr=""/>
          <p:cNvPicPr/>
          <p:nvPr/>
        </p:nvPicPr>
        <p:blipFill>
          <a:blip r:embed="rId2"/>
          <a:stretch/>
        </p:blipFill>
        <p:spPr>
          <a:xfrm>
            <a:off x="7558200" y="1204920"/>
            <a:ext cx="1303200" cy="861840"/>
          </a:xfrm>
          <a:prstGeom prst="rect">
            <a:avLst/>
          </a:prstGeom>
          <a:ln w="0">
            <a:noFill/>
          </a:ln>
        </p:spPr>
      </p:pic>
    </p:spTree>
  </p:cSld>
  <p:transition spd="med" advTm="72000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7" repeatCount="100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mediacall" presetID="1" repeatCount="1000">
                                  <p:stCondLst>
                                    <p:cond delay="6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6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Fußzeilenplatzhalter 4"/>
          <p:cNvSpPr/>
          <p:nvPr/>
        </p:nvSpPr>
        <p:spPr>
          <a:xfrm>
            <a:off x="4788000" y="4767120"/>
            <a:ext cx="324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informiert über das Online-Auswei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55280" y="449280"/>
            <a:ext cx="7272360" cy="8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5489c2"/>
                </a:solidFill>
                <a:latin typeface="Arial"/>
              </a:rPr>
              <a:t>Sicherheit für digitale Services</a:t>
            </a:r>
            <a:endParaRPr b="1" lang="en-US" sz="36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610" name="Datumsplatzhalter 1"/>
          <p:cNvSpPr/>
          <p:nvPr/>
        </p:nvSpPr>
        <p:spPr>
          <a:xfrm>
            <a:off x="457200" y="4767120"/>
            <a:ext cx="224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DBFC-9FFA-4429-B5AB-25681874FA37}" type="datetime2">
              <a:rPr b="0" lang="de-DE" sz="1100" spc="-1" strike="noStrike">
                <a:solidFill>
                  <a:srgbClr val="898989"/>
                </a:solidFill>
                <a:latin typeface="Arial"/>
              </a:rPr>
              <a:t>Mittwoch, 29. Juli 20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oliennummernplatzhalter 3"/>
          <p:cNvSpPr/>
          <p:nvPr/>
        </p:nvSpPr>
        <p:spPr>
          <a:xfrm>
            <a:off x="8172360" y="4767120"/>
            <a:ext cx="51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5982-8279-4BF8-8D62-8D1882D1E8AB}" type="slidenum">
              <a:rPr b="1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Grafik 9" descr=""/>
          <p:cNvPicPr/>
          <p:nvPr/>
        </p:nvPicPr>
        <p:blipFill>
          <a:blip r:embed="rId1"/>
          <a:stretch/>
        </p:blipFill>
        <p:spPr>
          <a:xfrm>
            <a:off x="7558200" y="1204920"/>
            <a:ext cx="1303200" cy="861840"/>
          </a:xfrm>
          <a:prstGeom prst="rect">
            <a:avLst/>
          </a:prstGeom>
          <a:ln w="0">
            <a:noFill/>
          </a:ln>
        </p:spPr>
      </p:pic>
      <p:pic>
        <p:nvPicPr>
          <p:cNvPr id="613" name="Informationsfilm_mpeg2.mpeg" descr=""/>
          <p:cNvPicPr/>
          <p:nvPr/>
        </p:nvPicPr>
        <p:blipFill>
          <a:blip r:embed="rId2"/>
          <a:stretch/>
        </p:blipFill>
        <p:spPr>
          <a:xfrm>
            <a:off x="1365120" y="120348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p:transition spd="med" advTm="53000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7" repeatCount="100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mediacall" presetID="1">
                                  <p:stCondLst>
                                    <p:cond delay="6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44017" fill="hold"/>
                                        <p:tgtEl>
                                          <p:spTgt spid="6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Fußzeilenplatzhalter 4"/>
          <p:cNvSpPr/>
          <p:nvPr/>
        </p:nvSpPr>
        <p:spPr>
          <a:xfrm>
            <a:off x="4788000" y="4767120"/>
            <a:ext cx="324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informiert über das Online-Auswei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55280" y="449280"/>
            <a:ext cx="7272360" cy="8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5489c2"/>
                </a:solidFill>
                <a:latin typeface="Arial"/>
              </a:rPr>
              <a:t>Sicherheit für digitale Services</a:t>
            </a:r>
            <a:endParaRPr b="1" lang="en-US" sz="36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616" name="Datumsplatzhalter 1"/>
          <p:cNvSpPr/>
          <p:nvPr/>
        </p:nvSpPr>
        <p:spPr>
          <a:xfrm>
            <a:off x="457200" y="4767120"/>
            <a:ext cx="224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6586-9338-4267-9630-99AF8BED49C8}" type="datetime2">
              <a:rPr b="0" lang="de-DE" sz="1100" spc="-1" strike="noStrike">
                <a:solidFill>
                  <a:srgbClr val="898989"/>
                </a:solidFill>
                <a:latin typeface="Arial"/>
              </a:rPr>
              <a:t>Mittwoch, 29. Juli 20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oliennummernplatzhalter 3"/>
          <p:cNvSpPr/>
          <p:nvPr/>
        </p:nvSpPr>
        <p:spPr>
          <a:xfrm>
            <a:off x="8172360" y="4767120"/>
            <a:ext cx="51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C763-9BCD-454C-A663-248DA4FB77CA}" type="slidenum">
              <a:rPr b="1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Grafik 9" descr=""/>
          <p:cNvPicPr/>
          <p:nvPr/>
        </p:nvPicPr>
        <p:blipFill>
          <a:blip r:embed="rId1"/>
          <a:stretch/>
        </p:blipFill>
        <p:spPr>
          <a:xfrm>
            <a:off x="7562880" y="1204920"/>
            <a:ext cx="1293840" cy="861840"/>
          </a:xfrm>
          <a:prstGeom prst="rect">
            <a:avLst/>
          </a:prstGeom>
          <a:ln w="0">
            <a:noFill/>
          </a:ln>
        </p:spPr>
      </p:pic>
      <p:pic>
        <p:nvPicPr>
          <p:cNvPr id="619" name="ELSTER-Personalausweis-UT_mp4.mp4" descr=""/>
          <p:cNvPicPr/>
          <p:nvPr/>
        </p:nvPicPr>
        <p:blipFill>
          <a:blip r:embed="rId2"/>
          <a:stretch/>
        </p:blipFill>
        <p:spPr>
          <a:xfrm>
            <a:off x="1365120" y="1230480"/>
            <a:ext cx="6096240" cy="3474720"/>
          </a:xfrm>
          <a:prstGeom prst="rect">
            <a:avLst/>
          </a:prstGeom>
          <a:ln w="0">
            <a:noFill/>
          </a:ln>
        </p:spPr>
      </p:pic>
    </p:spTree>
  </p:cSld>
  <p:transition spd="med" advTm="238000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7" repeatCount="100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mediacall" presetID="1">
                                  <p:stCondLst>
                                    <p:cond delay="6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1" fill="hold"/>
                                        <p:tgtEl>
                                          <p:spTgt spid="6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ußzeilenplatzhalter 4"/>
          <p:cNvSpPr/>
          <p:nvPr/>
        </p:nvSpPr>
        <p:spPr>
          <a:xfrm>
            <a:off x="4788000" y="4767120"/>
            <a:ext cx="324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informiert über das Online-Auswei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55280" y="449280"/>
            <a:ext cx="7272360" cy="8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5489c2"/>
                </a:solidFill>
                <a:latin typeface="Arial"/>
              </a:rPr>
              <a:t>Sicherheit für digitale Services</a:t>
            </a:r>
            <a:endParaRPr b="1" lang="en-US" sz="36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622" name="Datumsplatzhalter 1"/>
          <p:cNvSpPr/>
          <p:nvPr/>
        </p:nvSpPr>
        <p:spPr>
          <a:xfrm>
            <a:off x="457200" y="4767120"/>
            <a:ext cx="224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C2B0-BDF2-422D-AD7F-FF9971DC864F}" type="datetime2">
              <a:rPr b="0" lang="de-DE" sz="1100" spc="-1" strike="noStrike">
                <a:solidFill>
                  <a:srgbClr val="898989"/>
                </a:solidFill>
                <a:latin typeface="Arial"/>
              </a:rPr>
              <a:t>Mittwoch, 29. Juli 20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oliennummernplatzhalter 3"/>
          <p:cNvSpPr/>
          <p:nvPr/>
        </p:nvSpPr>
        <p:spPr>
          <a:xfrm>
            <a:off x="8172360" y="4767120"/>
            <a:ext cx="51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777F-EBE1-4086-9F29-DD4BC5A34222}" type="slidenum">
              <a:rPr b="1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Grafik 9" descr=""/>
          <p:cNvPicPr/>
          <p:nvPr/>
        </p:nvPicPr>
        <p:blipFill>
          <a:blip r:embed="rId1"/>
          <a:stretch/>
        </p:blipFill>
        <p:spPr>
          <a:xfrm>
            <a:off x="7562880" y="1208160"/>
            <a:ext cx="1293840" cy="857160"/>
          </a:xfrm>
          <a:prstGeom prst="rect">
            <a:avLst/>
          </a:prstGeom>
          <a:ln w="0">
            <a:noFill/>
          </a:ln>
        </p:spPr>
      </p:pic>
      <p:pic>
        <p:nvPicPr>
          <p:cNvPr id="625" name="nPA-Spot-Geburtsurkunde_mp4.mp4" descr=""/>
          <p:cNvPicPr/>
          <p:nvPr/>
        </p:nvPicPr>
        <p:blipFill>
          <a:blip r:embed="rId2"/>
          <a:stretch/>
        </p:blipFill>
        <p:spPr>
          <a:xfrm>
            <a:off x="1384200" y="1230480"/>
            <a:ext cx="6077160" cy="3474720"/>
          </a:xfrm>
          <a:prstGeom prst="rect">
            <a:avLst/>
          </a:prstGeom>
          <a:ln w="0">
            <a:noFill/>
          </a:ln>
        </p:spPr>
      </p:pic>
    </p:spTree>
  </p:cSld>
  <p:transition spd="med" advTm="62000"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7" repeatCount="100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mediacall" presetID="1">
                                  <p:stCondLst>
                                    <p:cond delay="6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6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ußzeilenplatzhalter 4"/>
          <p:cNvSpPr/>
          <p:nvPr/>
        </p:nvSpPr>
        <p:spPr>
          <a:xfrm>
            <a:off x="4788000" y="4767120"/>
            <a:ext cx="324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informiert über das Online-Auswei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Grafik 1" descr=""/>
          <p:cNvPicPr/>
          <p:nvPr/>
        </p:nvPicPr>
        <p:blipFill>
          <a:blip r:embed="rId1"/>
          <a:stretch/>
        </p:blipFill>
        <p:spPr>
          <a:xfrm>
            <a:off x="754200" y="1203480"/>
            <a:ext cx="5048280" cy="3555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55280" y="449280"/>
            <a:ext cx="7272360" cy="8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5489c2"/>
                </a:solidFill>
                <a:latin typeface="Arial"/>
              </a:rPr>
              <a:t>Sicherheit für digitale Services</a:t>
            </a:r>
            <a:endParaRPr b="1" lang="en-US" sz="36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629" name="Inhaltsplatzhalter 2"/>
          <p:cNvSpPr/>
          <p:nvPr/>
        </p:nvSpPr>
        <p:spPr>
          <a:xfrm>
            <a:off x="6084720" y="1419120"/>
            <a:ext cx="305928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Informieren Sie sich hier am Infor-mationsstand und nehmen Sie einen Gutschein für ein vergünstigtes Lesegerät m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Datumsplatzhalter 1"/>
          <p:cNvSpPr/>
          <p:nvPr/>
        </p:nvSpPr>
        <p:spPr>
          <a:xfrm>
            <a:off x="457200" y="4767120"/>
            <a:ext cx="224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F1D4-A93D-45D9-A733-C8B14F58B588}" type="datetime2">
              <a:rPr b="0" lang="de-DE" sz="1100" spc="-1" strike="noStrike">
                <a:solidFill>
                  <a:srgbClr val="898989"/>
                </a:solidFill>
                <a:latin typeface="Arial"/>
              </a:rPr>
              <a:t>Mittwoch, 29. Juli 20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oliennummernplatzhalter 2"/>
          <p:cNvSpPr/>
          <p:nvPr/>
        </p:nvSpPr>
        <p:spPr>
          <a:xfrm>
            <a:off x="8172360" y="4767120"/>
            <a:ext cx="51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C7C3-FA33-444A-95B0-0F1EF580FBAB}" type="slidenum">
              <a:rPr b="1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Fußzeilenplatzhalter 4"/>
          <p:cNvSpPr/>
          <p:nvPr/>
        </p:nvSpPr>
        <p:spPr>
          <a:xfrm>
            <a:off x="4788000" y="4767120"/>
            <a:ext cx="324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informiert über das Online-Auswei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Grafik 1" descr=""/>
          <p:cNvPicPr/>
          <p:nvPr/>
        </p:nvPicPr>
        <p:blipFill>
          <a:blip r:embed="rId1"/>
          <a:stretch/>
        </p:blipFill>
        <p:spPr>
          <a:xfrm>
            <a:off x="611280" y="1203480"/>
            <a:ext cx="5333760" cy="355572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55280" y="449280"/>
            <a:ext cx="7272360" cy="8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5489c2"/>
                </a:solidFill>
                <a:latin typeface="Arial"/>
              </a:rPr>
              <a:t>Sicherheit für digitale Services</a:t>
            </a:r>
            <a:endParaRPr b="1" lang="en-US" sz="36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557" name="Inhaltsplatzhalter 2"/>
          <p:cNvSpPr/>
          <p:nvPr/>
        </p:nvSpPr>
        <p:spPr>
          <a:xfrm>
            <a:off x="6084720" y="1419120"/>
            <a:ext cx="295128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Arial"/>
              </a:rPr>
              <a:t>Ist dieser PC siche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ab2224"/>
              </a:buClr>
              <a:buSzPct val="12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Arial"/>
              </a:rPr>
              <a:t>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ab2224"/>
              </a:buClr>
              <a:buSzPct val="12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Arial"/>
              </a:rPr>
              <a:t>viellei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ab2224"/>
              </a:buClr>
              <a:buSzPct val="12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Arial"/>
              </a:rPr>
              <a:t>ne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  <a:ea typeface="Arial"/>
              </a:rPr>
              <a:t>Wir wissen es nich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Datumsplatzhalter 1"/>
          <p:cNvSpPr/>
          <p:nvPr/>
        </p:nvSpPr>
        <p:spPr>
          <a:xfrm>
            <a:off x="457200" y="4767120"/>
            <a:ext cx="224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1831-44E8-49FC-A96D-140C4AE91ED7}" type="datetime2">
              <a:rPr b="0" lang="de-DE" sz="1100" spc="-1" strike="noStrike">
                <a:solidFill>
                  <a:srgbClr val="898989"/>
                </a:solidFill>
                <a:latin typeface="Arial"/>
              </a:rPr>
              <a:t>Mittwoch, 29. Juli 20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liennummernplatzhalter 2"/>
          <p:cNvSpPr/>
          <p:nvPr/>
        </p:nvSpPr>
        <p:spPr>
          <a:xfrm>
            <a:off x="8172360" y="4767120"/>
            <a:ext cx="51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DA5B-A1DD-4B71-80D4-2A25CEE06049}" type="slidenum">
              <a:rPr b="1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2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Fußzeilenplatzhalter 4"/>
          <p:cNvSpPr/>
          <p:nvPr/>
        </p:nvSpPr>
        <p:spPr>
          <a:xfrm>
            <a:off x="4788000" y="4767120"/>
            <a:ext cx="324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informiert über das Online-Auswei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Grafik 5" descr=""/>
          <p:cNvPicPr/>
          <p:nvPr/>
        </p:nvPicPr>
        <p:blipFill>
          <a:blip r:embed="rId1"/>
          <a:stretch/>
        </p:blipFill>
        <p:spPr>
          <a:xfrm>
            <a:off x="611280" y="1206360"/>
            <a:ext cx="5329080" cy="3552840"/>
          </a:xfrm>
          <a:prstGeom prst="rect">
            <a:avLst/>
          </a:prstGeom>
          <a:ln w="0">
            <a:noFill/>
          </a:ln>
        </p:spPr>
      </p:pic>
      <p:sp>
        <p:nvSpPr>
          <p:cNvPr id="562" name="Inhaltsplatzhalter 2"/>
          <p:cNvSpPr/>
          <p:nvPr/>
        </p:nvSpPr>
        <p:spPr>
          <a:xfrm>
            <a:off x="6084720" y="1419120"/>
            <a:ext cx="288000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Verwenden Sie zum Starten Ihres Rechners die BuergerDVD und stellen Sie damit  höchste Sicherheit für das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Online-Ausweisen 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55280" y="449280"/>
            <a:ext cx="7272360" cy="8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5489c2"/>
                </a:solidFill>
                <a:latin typeface="Arial"/>
              </a:rPr>
              <a:t>Sicherheit für digitale Services</a:t>
            </a:r>
            <a:endParaRPr b="1" lang="en-US" sz="36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564" name="Datumsplatzhalter 1"/>
          <p:cNvSpPr/>
          <p:nvPr/>
        </p:nvSpPr>
        <p:spPr>
          <a:xfrm>
            <a:off x="457200" y="4767120"/>
            <a:ext cx="238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F4B8-55C5-4DEB-A3F0-96EC0AC8AFC2}" type="datetime2">
              <a:rPr b="0" lang="de-DE" sz="1100" spc="-1" strike="noStrike">
                <a:solidFill>
                  <a:srgbClr val="898989"/>
                </a:solidFill>
                <a:latin typeface="Arial"/>
              </a:rPr>
              <a:t>Mittwoch, 29. Juli 20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oliennummernplatzhalter 2"/>
          <p:cNvSpPr/>
          <p:nvPr/>
        </p:nvSpPr>
        <p:spPr>
          <a:xfrm>
            <a:off x="8172360" y="4767120"/>
            <a:ext cx="51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2A28-5AA4-4ADA-9F96-9433E4761052}" type="slidenum">
              <a:rPr b="1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ußzeilenplatzhalter 4"/>
          <p:cNvSpPr/>
          <p:nvPr/>
        </p:nvSpPr>
        <p:spPr>
          <a:xfrm>
            <a:off x="4788000" y="4767120"/>
            <a:ext cx="324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informiert über das Online-Auswei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Inhaltsplatzhalter 2"/>
          <p:cNvSpPr/>
          <p:nvPr/>
        </p:nvSpPr>
        <p:spPr>
          <a:xfrm>
            <a:off x="6084720" y="1419120"/>
            <a:ext cx="288000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Unterschiedliche Bauformen der BuergerDVD ermöglichen eine universelle Nutzung an nahezu jedem Endgerä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55280" y="449280"/>
            <a:ext cx="7272360" cy="8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5489c2"/>
                </a:solidFill>
                <a:latin typeface="Arial"/>
              </a:rPr>
              <a:t>Sicherheit für digitale Services</a:t>
            </a:r>
            <a:endParaRPr b="1" lang="en-US" sz="36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569" name="Datumsplatzhalter 1"/>
          <p:cNvSpPr/>
          <p:nvPr/>
        </p:nvSpPr>
        <p:spPr>
          <a:xfrm>
            <a:off x="457200" y="4767120"/>
            <a:ext cx="238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0FBF-0EF3-4978-B128-3DBF07DBA7F2}" type="datetime2">
              <a:rPr b="0" lang="de-DE" sz="1100" spc="-1" strike="noStrike">
                <a:solidFill>
                  <a:srgbClr val="898989"/>
                </a:solidFill>
                <a:latin typeface="Arial"/>
              </a:rPr>
              <a:t>Mittwoch, 29. Juli 20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Grafik 8" descr=""/>
          <p:cNvPicPr/>
          <p:nvPr/>
        </p:nvPicPr>
        <p:blipFill>
          <a:blip r:embed="rId1"/>
          <a:stretch/>
        </p:blipFill>
        <p:spPr>
          <a:xfrm>
            <a:off x="611280" y="1203480"/>
            <a:ext cx="5333760" cy="3555720"/>
          </a:xfrm>
          <a:prstGeom prst="rect">
            <a:avLst/>
          </a:prstGeom>
          <a:ln w="0">
            <a:noFill/>
          </a:ln>
        </p:spPr>
      </p:pic>
      <p:sp>
        <p:nvSpPr>
          <p:cNvPr id="571" name="Foliennummernplatzhalter 2"/>
          <p:cNvSpPr/>
          <p:nvPr/>
        </p:nvSpPr>
        <p:spPr>
          <a:xfrm>
            <a:off x="8172360" y="4767120"/>
            <a:ext cx="51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9D1C-4006-42A0-B021-8898DAB8BFAC}" type="slidenum">
              <a:rPr b="1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1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ußzeilenplatzhalter 4"/>
          <p:cNvSpPr/>
          <p:nvPr/>
        </p:nvSpPr>
        <p:spPr>
          <a:xfrm>
            <a:off x="4788000" y="4767120"/>
            <a:ext cx="324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informiert über das Online-Auswei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Inhaltsplatzhalter 2"/>
          <p:cNvSpPr/>
          <p:nvPr/>
        </p:nvSpPr>
        <p:spPr>
          <a:xfrm>
            <a:off x="6084720" y="1419120"/>
            <a:ext cx="288000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Die BuergerDVD kann am PC zu Hause oder auch in Ämtern, Betrieben und Vereinen alle Dienste mit Online-Ausweisfunktion schnell u. sicher zur Verfügung stel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55280" y="449280"/>
            <a:ext cx="7272360" cy="8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5489c2"/>
                </a:solidFill>
                <a:latin typeface="Arial"/>
              </a:rPr>
              <a:t>Sicherheit für digitale Services</a:t>
            </a:r>
            <a:endParaRPr b="1" lang="en-US" sz="36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575" name="Datumsplatzhalter 1"/>
          <p:cNvSpPr/>
          <p:nvPr/>
        </p:nvSpPr>
        <p:spPr>
          <a:xfrm>
            <a:off x="457200" y="4767120"/>
            <a:ext cx="238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2811-B300-4FF6-A86A-6D675545B530}" type="datetime2">
              <a:rPr b="0" lang="de-DE" sz="1100" spc="-1" strike="noStrike">
                <a:solidFill>
                  <a:srgbClr val="898989"/>
                </a:solidFill>
                <a:latin typeface="Arial"/>
              </a:rPr>
              <a:t>Mittwoch, 29. Juli 20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Grafik 8" descr=""/>
          <p:cNvPicPr/>
          <p:nvPr/>
        </p:nvPicPr>
        <p:blipFill>
          <a:blip r:embed="rId1"/>
          <a:stretch/>
        </p:blipFill>
        <p:spPr>
          <a:xfrm>
            <a:off x="816120" y="1203480"/>
            <a:ext cx="4924440" cy="3555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77" name="Foliennummernplatzhalter 2"/>
          <p:cNvSpPr/>
          <p:nvPr/>
        </p:nvSpPr>
        <p:spPr>
          <a:xfrm>
            <a:off x="8172360" y="4767120"/>
            <a:ext cx="51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168F-6F01-495E-94A5-F09077D4A79C}" type="slidenum">
              <a:rPr b="1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1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ußzeilenplatzhalter 4"/>
          <p:cNvSpPr/>
          <p:nvPr/>
        </p:nvSpPr>
        <p:spPr>
          <a:xfrm>
            <a:off x="4788000" y="4767120"/>
            <a:ext cx="324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informiert über das Online-Auswei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Inhaltsplatzhalter 2"/>
          <p:cNvSpPr/>
          <p:nvPr/>
        </p:nvSpPr>
        <p:spPr>
          <a:xfrm>
            <a:off x="6084720" y="1419120"/>
            <a:ext cx="288000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Die Nutzung der Online-Ausweisfunktion erspart vielfach die handschriftliche Unterschrift und damit den Papierw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755280" y="449280"/>
            <a:ext cx="7272360" cy="8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5489c2"/>
                </a:solidFill>
                <a:latin typeface="Arial"/>
              </a:rPr>
              <a:t>Sicherheit für digitale Services</a:t>
            </a:r>
            <a:endParaRPr b="1" lang="en-US" sz="3600" spc="-1" strike="noStrike">
              <a:solidFill>
                <a:srgbClr val="ab2224"/>
              </a:solidFill>
              <a:latin typeface="Arial"/>
            </a:endParaRPr>
          </a:p>
        </p:txBody>
      </p:sp>
      <p:pic>
        <p:nvPicPr>
          <p:cNvPr id="581" name="Grafik 5" descr=""/>
          <p:cNvPicPr/>
          <p:nvPr/>
        </p:nvPicPr>
        <p:blipFill>
          <a:blip r:embed="rId1"/>
          <a:stretch/>
        </p:blipFill>
        <p:spPr>
          <a:xfrm>
            <a:off x="611280" y="1407960"/>
            <a:ext cx="5329080" cy="3324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82" name="Datumsplatzhalter 1"/>
          <p:cNvSpPr/>
          <p:nvPr/>
        </p:nvSpPr>
        <p:spPr>
          <a:xfrm>
            <a:off x="457200" y="4767120"/>
            <a:ext cx="224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5A65-3B83-4A46-8BD1-8AD5403D3441}" type="datetime2">
              <a:rPr b="0" lang="de-DE" sz="1100" spc="-1" strike="noStrike">
                <a:solidFill>
                  <a:srgbClr val="898989"/>
                </a:solidFill>
                <a:latin typeface="Arial"/>
              </a:rPr>
              <a:t>Mittwoch, 29. Juli 20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oliennummernplatzhalter 2"/>
          <p:cNvSpPr/>
          <p:nvPr/>
        </p:nvSpPr>
        <p:spPr>
          <a:xfrm>
            <a:off x="8172360" y="4767120"/>
            <a:ext cx="51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AC42-9938-441E-8502-4061CF7CA1BE}" type="slidenum">
              <a:rPr b="1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1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ußzeilenplatzhalter 4"/>
          <p:cNvSpPr/>
          <p:nvPr/>
        </p:nvSpPr>
        <p:spPr>
          <a:xfrm>
            <a:off x="4788000" y="4767120"/>
            <a:ext cx="324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informiert über das Online-Auswei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Inhaltsplatzhalter 2"/>
          <p:cNvSpPr/>
          <p:nvPr/>
        </p:nvSpPr>
        <p:spPr>
          <a:xfrm>
            <a:off x="6084720" y="1419120"/>
            <a:ext cx="280836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Das Einschreiben ist mit der Online-Ausweisfunktion auch digital mögli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-Kuver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55280" y="449280"/>
            <a:ext cx="7272360" cy="8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5489c2"/>
                </a:solidFill>
                <a:latin typeface="Arial"/>
              </a:rPr>
              <a:t>Sicherheit für digitale Services</a:t>
            </a:r>
            <a:endParaRPr b="1" lang="en-US" sz="36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587" name="Datumsplatzhalter 1"/>
          <p:cNvSpPr/>
          <p:nvPr/>
        </p:nvSpPr>
        <p:spPr>
          <a:xfrm>
            <a:off x="457200" y="4767120"/>
            <a:ext cx="224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6652-8C2C-45B8-A1DC-6AFCE74BAC3A}" type="datetime2">
              <a:rPr b="0" lang="de-DE" sz="1100" spc="-1" strike="noStrike">
                <a:solidFill>
                  <a:srgbClr val="898989"/>
                </a:solidFill>
                <a:latin typeface="Arial"/>
              </a:rPr>
              <a:t>Mittwoch, 29. Juli 20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liennummernplatzhalter 2"/>
          <p:cNvSpPr/>
          <p:nvPr/>
        </p:nvSpPr>
        <p:spPr>
          <a:xfrm>
            <a:off x="8172360" y="4767120"/>
            <a:ext cx="51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FB8E-656F-4221-AC6C-B8EFAB5B7E04}" type="slidenum">
              <a:rPr b="1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Grafik 7" descr=""/>
          <p:cNvPicPr/>
          <p:nvPr/>
        </p:nvPicPr>
        <p:blipFill>
          <a:blip r:embed="rId1"/>
          <a:stretch/>
        </p:blipFill>
        <p:spPr>
          <a:xfrm>
            <a:off x="611280" y="1565280"/>
            <a:ext cx="5329080" cy="26622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 advTm="21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ußzeilenplatzhalter 4"/>
          <p:cNvSpPr/>
          <p:nvPr/>
        </p:nvSpPr>
        <p:spPr>
          <a:xfrm>
            <a:off x="4788000" y="4767120"/>
            <a:ext cx="324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informiert über das Online-Auswei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55280" y="449280"/>
            <a:ext cx="7272360" cy="8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5489c2"/>
                </a:solidFill>
                <a:latin typeface="Arial"/>
              </a:rPr>
              <a:t>Sicherheit für digitale Services</a:t>
            </a:r>
            <a:endParaRPr b="1" lang="en-US" sz="36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592" name="Datumsplatzhalter 1"/>
          <p:cNvSpPr/>
          <p:nvPr/>
        </p:nvSpPr>
        <p:spPr>
          <a:xfrm>
            <a:off x="457200" y="4767120"/>
            <a:ext cx="224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3FDE-F7FC-4CC4-A14A-25E91F699A59}" type="datetime2">
              <a:rPr b="0" lang="de-DE" sz="1100" spc="-1" strike="noStrike">
                <a:solidFill>
                  <a:srgbClr val="898989"/>
                </a:solidFill>
                <a:latin typeface="Arial"/>
              </a:rPr>
              <a:t>Mittwoch, 29. Juli 20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oliennummernplatzhalter 2"/>
          <p:cNvSpPr/>
          <p:nvPr/>
        </p:nvSpPr>
        <p:spPr>
          <a:xfrm>
            <a:off x="8172360" y="4767120"/>
            <a:ext cx="51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A01B-BA9E-4637-96E6-4BDBEB8B1E80}" type="slidenum">
              <a:rPr b="1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Informationsfilm_Führungszeugnis.mp4" descr=""/>
          <p:cNvPicPr/>
          <p:nvPr/>
        </p:nvPicPr>
        <p:blipFill>
          <a:blip r:embed="rId1"/>
          <a:stretch/>
        </p:blipFill>
        <p:spPr>
          <a:xfrm>
            <a:off x="1365120" y="1204920"/>
            <a:ext cx="6096240" cy="3427560"/>
          </a:xfrm>
          <a:prstGeom prst="rect">
            <a:avLst/>
          </a:prstGeom>
          <a:ln w="0">
            <a:noFill/>
          </a:ln>
        </p:spPr>
      </p:pic>
      <p:pic>
        <p:nvPicPr>
          <p:cNvPr id="595" name="Grafik 3" descr=""/>
          <p:cNvPicPr/>
          <p:nvPr/>
        </p:nvPicPr>
        <p:blipFill>
          <a:blip r:embed="rId2"/>
          <a:stretch/>
        </p:blipFill>
        <p:spPr>
          <a:xfrm>
            <a:off x="7558200" y="1204920"/>
            <a:ext cx="1303200" cy="861840"/>
          </a:xfrm>
          <a:prstGeom prst="rect">
            <a:avLst/>
          </a:prstGeom>
          <a:ln w="0">
            <a:noFill/>
          </a:ln>
        </p:spPr>
      </p:pic>
    </p:spTree>
  </p:cSld>
  <p:transition spd="med" advTm="25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 repeatCount="100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mediacall" presetID="1" repeatCount="1000">
                                  <p:stCondLst>
                                    <p:cond delay="6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5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Fußzeilenplatzhalter 4"/>
          <p:cNvSpPr/>
          <p:nvPr/>
        </p:nvSpPr>
        <p:spPr>
          <a:xfrm>
            <a:off x="4788000" y="4767120"/>
            <a:ext cx="324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Arial"/>
              </a:rPr>
              <a:t>informiert über das Online-Auswei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755280" y="449280"/>
            <a:ext cx="7272360" cy="8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5489c2"/>
                </a:solidFill>
                <a:latin typeface="Arial"/>
              </a:rPr>
              <a:t>Sicherheit für digitale Services</a:t>
            </a:r>
            <a:endParaRPr b="1" lang="en-US" sz="3600" spc="-1" strike="noStrike">
              <a:solidFill>
                <a:srgbClr val="ab2224"/>
              </a:solidFill>
              <a:latin typeface="Arial"/>
            </a:endParaRPr>
          </a:p>
        </p:txBody>
      </p:sp>
      <p:sp>
        <p:nvSpPr>
          <p:cNvPr id="598" name="Datumsplatzhalter 1"/>
          <p:cNvSpPr/>
          <p:nvPr/>
        </p:nvSpPr>
        <p:spPr>
          <a:xfrm>
            <a:off x="457200" y="4767120"/>
            <a:ext cx="224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68A5-CD78-4190-825C-88FE21399764}" type="datetime2">
              <a:rPr b="0" lang="de-DE" sz="1100" spc="-1" strike="noStrike">
                <a:solidFill>
                  <a:srgbClr val="898989"/>
                </a:solidFill>
                <a:latin typeface="Arial"/>
              </a:rPr>
              <a:t>Mittwoch, 29. Juli 20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oliennummernplatzhalter 2"/>
          <p:cNvSpPr/>
          <p:nvPr/>
        </p:nvSpPr>
        <p:spPr>
          <a:xfrm>
            <a:off x="8172360" y="4767120"/>
            <a:ext cx="51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C49F-96A3-4B65-B2E3-C1DD132527BC}" type="slidenum">
              <a:rPr b="1" lang="de-D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a_spot_dt.wmv" descr=""/>
          <p:cNvPicPr/>
          <p:nvPr/>
        </p:nvPicPr>
        <p:blipFill>
          <a:blip r:embed="rId1"/>
          <a:stretch/>
        </p:blipFill>
        <p:spPr>
          <a:xfrm>
            <a:off x="1365120" y="1203480"/>
            <a:ext cx="6096240" cy="3429000"/>
          </a:xfrm>
          <a:prstGeom prst="rect">
            <a:avLst/>
          </a:prstGeom>
          <a:ln w="0">
            <a:noFill/>
          </a:ln>
        </p:spPr>
      </p:pic>
      <p:pic>
        <p:nvPicPr>
          <p:cNvPr id="601" name="Grafik 12" descr=""/>
          <p:cNvPicPr/>
          <p:nvPr/>
        </p:nvPicPr>
        <p:blipFill>
          <a:blip r:embed="rId2"/>
          <a:stretch/>
        </p:blipFill>
        <p:spPr>
          <a:xfrm>
            <a:off x="7561440" y="1204920"/>
            <a:ext cx="1299960" cy="861840"/>
          </a:xfrm>
          <a:prstGeom prst="rect">
            <a:avLst/>
          </a:prstGeom>
          <a:ln w="0">
            <a:noFill/>
          </a:ln>
        </p:spPr>
      </p:pic>
    </p:spTree>
  </p:cSld>
  <p:transition spd="med" advTm="37000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7" repeatCount="100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mediacall" presetID="1">
                                  <p:stCondLst>
                                    <p:cond delay="6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0000" fill="hold"/>
                                        <p:tgtEl>
                                          <p:spTgt spid="6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10:44:46Z</dcterms:created>
  <dc:creator>SiXFORM GmbH und Stadt Kitzingen</dc:creator>
  <dc:description>Die Gr. Kreisstadt Kitzingen berichtet über ihre ersten nachweisbaren Erfolge beim Thema eGovernment.</dc:description>
  <dc:language>en-US</dc:language>
  <cp:lastModifiedBy>Rudolf Philipeit</cp:lastModifiedBy>
  <cp:lastPrinted>2012-10-05T13:04:58Z</cp:lastPrinted>
  <dcterms:modified xsi:type="dcterms:W3CDTF">2015-06-21T21:26:45Z</dcterms:modified>
  <cp:revision>311</cp:revision>
  <dc:subject>eGovernment</dc:subject>
  <dc:title>In 100 Tagen zum eGovernment</dc:title>
</cp:coreProperties>
</file>